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5210-D633-4637-8332-039C165AB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A907-FE38-4537-B8EA-4FDDB8D92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7B23-491E-4C9F-BD53-EB482AA48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1C53-9F71-4ED8-A985-08A7A3D40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0629-6578-4E6D-8550-047B35322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CF31-F725-4150-A0F0-02767AE29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C161-C053-491C-97B1-438F7DED3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EE97-D98A-4EC5-BBE3-3B659A697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936E-1152-4F0B-B05A-27D8A59FD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CF3D-FF56-4B64-9653-4A6ED016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D61E-2C3B-404A-A6B6-49A794C1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1622-600C-4ED3-AF80-C9DFBF7F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C38F3-DE44-4213-9D63-6117447B92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Группа 3"/>
          <p:cNvGrpSpPr/>
          <p:nvPr/>
        </p:nvGrpSpPr>
        <p:grpSpPr>
          <a:xfrm>
            <a:off x="600120" y="484200"/>
            <a:ext cx="8251920" cy="712800"/>
            <a:chOff x="600120" y="484200"/>
            <a:chExt cx="8251920" cy="712800"/>
          </a:xfrm>
        </p:grpSpPr>
        <p:sp>
          <p:nvSpPr>
            <p:cNvPr id="42" name="Text Box 4"/>
            <p:cNvSpPr/>
            <p:nvPr/>
          </p:nvSpPr>
          <p:spPr>
            <a:xfrm>
              <a:off x="1422000" y="612720"/>
              <a:ext cx="7430040" cy="584280"/>
            </a:xfrm>
            <a:prstGeom prst="rect">
              <a:avLst/>
            </a:prstGeom>
            <a:solidFill>
              <a:srgbClr val="ffda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  <a:ea typeface="Microsoft YaHei"/>
                </a:rPr>
                <a:t>Вспоминаем то, что знае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" name="Рисунок 5" descr="значки - думаю.jpg"/>
            <p:cNvPicPr/>
            <p:nvPr/>
          </p:nvPicPr>
          <p:blipFill>
            <a:blip r:embed="rId1"/>
            <a:stretch/>
          </p:blipFill>
          <p:spPr>
            <a:xfrm>
              <a:off x="600120" y="484200"/>
              <a:ext cx="726840" cy="712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Text Box 4"/>
          <p:cNvSpPr/>
          <p:nvPr/>
        </p:nvSpPr>
        <p:spPr>
          <a:xfrm>
            <a:off x="1389240" y="1550880"/>
            <a:ext cx="7462800" cy="654120"/>
          </a:xfrm>
          <a:prstGeom prst="rect">
            <a:avLst/>
          </a:prstGeom>
          <a:solidFill>
            <a:srgbClr val="ffd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Определяем основной вопрос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15" descr="значок новая тема.jpg"/>
          <p:cNvPicPr/>
          <p:nvPr/>
        </p:nvPicPr>
        <p:blipFill>
          <a:blip r:embed="rId2"/>
          <a:stretch/>
        </p:blipFill>
        <p:spPr>
          <a:xfrm>
            <a:off x="627120" y="1468440"/>
            <a:ext cx="700200" cy="736560"/>
          </a:xfrm>
          <a:prstGeom prst="rect">
            <a:avLst/>
          </a:prstGeom>
          <a:ln w="0">
            <a:noFill/>
          </a:ln>
        </p:spPr>
      </p:pic>
      <p:grpSp>
        <p:nvGrpSpPr>
          <p:cNvPr id="46" name="Группа 4"/>
          <p:cNvGrpSpPr/>
          <p:nvPr/>
        </p:nvGrpSpPr>
        <p:grpSpPr>
          <a:xfrm>
            <a:off x="682560" y="2665440"/>
            <a:ext cx="8169480" cy="714240"/>
            <a:chOff x="682560" y="2665440"/>
            <a:chExt cx="8169480" cy="714240"/>
          </a:xfrm>
        </p:grpSpPr>
        <p:sp>
          <p:nvSpPr>
            <p:cNvPr id="47" name="Text Box 4"/>
            <p:cNvSpPr/>
            <p:nvPr/>
          </p:nvSpPr>
          <p:spPr>
            <a:xfrm>
              <a:off x="1435320" y="2685600"/>
              <a:ext cx="7416720" cy="599400"/>
            </a:xfrm>
            <a:prstGeom prst="rect">
              <a:avLst/>
            </a:prstGeom>
            <a:solidFill>
              <a:srgbClr val="ffda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  <a:ea typeface="Microsoft YaHei"/>
                </a:rPr>
                <a:t>Решаем проблему, открываем новые зна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Рисунок 6" descr="значки - идея.jpg"/>
            <p:cNvPicPr/>
            <p:nvPr/>
          </p:nvPicPr>
          <p:blipFill>
            <a:blip r:embed="rId3"/>
            <a:stretch/>
          </p:blipFill>
          <p:spPr>
            <a:xfrm>
              <a:off x="682560" y="2665440"/>
              <a:ext cx="728640" cy="714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" name="Рисунок 6" descr="значки.jpg"/>
          <p:cNvPicPr/>
          <p:nvPr/>
        </p:nvPicPr>
        <p:blipFill>
          <a:blip r:embed="rId4"/>
          <a:stretch/>
        </p:blipFill>
        <p:spPr>
          <a:xfrm>
            <a:off x="620640" y="4708440"/>
            <a:ext cx="725400" cy="7858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1349280" y="4780080"/>
            <a:ext cx="7502760" cy="642960"/>
          </a:xfrm>
          <a:prstGeom prst="rect">
            <a:avLst/>
          </a:prstGeom>
          <a:solidFill>
            <a:srgbClr val="ffd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Применяем новые знания. Развиваем ум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7" descr="значки - сравниваем с автором.jpg"/>
          <p:cNvPicPr/>
          <p:nvPr/>
        </p:nvPicPr>
        <p:blipFill>
          <a:blip r:embed="rId5"/>
          <a:stretch/>
        </p:blipFill>
        <p:spPr>
          <a:xfrm>
            <a:off x="534960" y="3765600"/>
            <a:ext cx="811080" cy="7668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4"/>
          <p:cNvSpPr/>
          <p:nvPr/>
        </p:nvSpPr>
        <p:spPr>
          <a:xfrm>
            <a:off x="1389240" y="3860640"/>
            <a:ext cx="7462800" cy="576360"/>
          </a:xfrm>
          <a:prstGeom prst="rect">
            <a:avLst/>
          </a:prstGeom>
          <a:solidFill>
            <a:srgbClr val="ffd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Сравниваем свой вывод с авторск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Скругленный прямоугольник 6"/>
          <p:cNvSpPr/>
          <p:nvPr/>
        </p:nvSpPr>
        <p:spPr>
          <a:xfrm>
            <a:off x="338040" y="1628640"/>
            <a:ext cx="8217000" cy="3529080"/>
          </a:xfrm>
          <a:prstGeom prst="roundRect">
            <a:avLst>
              <a:gd name="adj" fmla="val 16667"/>
            </a:avLst>
          </a:prstGeom>
          <a:solidFill>
            <a:srgbClr val="ffda8f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"/>
          <p:cNvSpPr/>
          <p:nvPr/>
        </p:nvSpPr>
        <p:spPr>
          <a:xfrm>
            <a:off x="468360" y="2362320"/>
            <a:ext cx="8281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егодня я искал, творил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 Знание новое открыл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 Научился применять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 Задания теперь легко мне выполн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9"/>
          <p:cNvSpPr/>
          <p:nvPr/>
        </p:nvSpPr>
        <p:spPr>
          <a:xfrm>
            <a:off x="324000" y="3714840"/>
            <a:ext cx="8391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Что это за признак имён существительны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 всех ли слов он ес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к определить род имён существительны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1285920" y="428760"/>
            <a:ext cx="7429320" cy="455400"/>
          </a:xfrm>
          <a:prstGeom prst="rect">
            <a:avLst/>
          </a:prstGeom>
          <a:solidFill>
            <a:srgbClr val="ffd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Определяем основной вопрос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15" descr="значок новая тема.jpg"/>
          <p:cNvPicPr/>
          <p:nvPr/>
        </p:nvPicPr>
        <p:blipFill>
          <a:blip r:embed="rId1"/>
          <a:stretch/>
        </p:blipFill>
        <p:spPr>
          <a:xfrm>
            <a:off x="714240" y="357120"/>
            <a:ext cx="588960" cy="61920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2" descr=""/>
          <p:cNvPicPr/>
          <p:nvPr/>
        </p:nvPicPr>
        <p:blipFill>
          <a:blip r:embed="rId2"/>
          <a:stretch/>
        </p:blipFill>
        <p:spPr>
          <a:xfrm>
            <a:off x="603360" y="1279440"/>
            <a:ext cx="8150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Группа 4"/>
          <p:cNvGrpSpPr/>
          <p:nvPr/>
        </p:nvGrpSpPr>
        <p:grpSpPr>
          <a:xfrm>
            <a:off x="214200" y="285840"/>
            <a:ext cx="8786880" cy="714240"/>
            <a:chOff x="214200" y="285840"/>
            <a:chExt cx="8786880" cy="714240"/>
          </a:xfrm>
        </p:grpSpPr>
        <p:sp>
          <p:nvSpPr>
            <p:cNvPr id="60" name="Text Box 4"/>
            <p:cNvSpPr/>
            <p:nvPr/>
          </p:nvSpPr>
          <p:spPr>
            <a:xfrm>
              <a:off x="857160" y="428760"/>
              <a:ext cx="8143920" cy="455760"/>
            </a:xfrm>
            <a:prstGeom prst="rect">
              <a:avLst/>
            </a:prstGeom>
            <a:solidFill>
              <a:srgbClr val="ffda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5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Microsoft YaHei"/>
                </a:rPr>
                <a:t>Решаем проблему, открываем новые зна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Рисунок 6" descr="значки - идея.jpg"/>
            <p:cNvPicPr/>
            <p:nvPr/>
          </p:nvPicPr>
          <p:blipFill>
            <a:blip r:embed="rId1"/>
            <a:stretch/>
          </p:blipFill>
          <p:spPr>
            <a:xfrm>
              <a:off x="214200" y="285840"/>
              <a:ext cx="728280" cy="71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TextBox 6"/>
          <p:cNvSpPr/>
          <p:nvPr/>
        </p:nvSpPr>
        <p:spPr>
          <a:xfrm>
            <a:off x="428760" y="1230480"/>
            <a:ext cx="8215200" cy="764280"/>
          </a:xfrm>
          <a:prstGeom prst="rect">
            <a:avLst/>
          </a:prstGeom>
          <a:solidFill>
            <a:srgbClr val="ded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читайте имена существительные. Какие из них называют мужчин, а какие женщин? Выпишите слова в два столби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428760" y="2143080"/>
            <a:ext cx="8143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  <a:ea typeface="Arial"/>
              </a:rPr>
              <a:t>Дедушка, мама, сестра, папа, бабушка, сын, брат, внучка, дядя, тётя, прадедушка, прабабушка, мужчина, женщ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3"/>
          <p:cNvSpPr/>
          <p:nvPr/>
        </p:nvSpPr>
        <p:spPr>
          <a:xfrm>
            <a:off x="5143680" y="1000080"/>
            <a:ext cx="2857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4"/>
          <p:cNvSpPr/>
          <p:nvPr/>
        </p:nvSpPr>
        <p:spPr>
          <a:xfrm>
            <a:off x="857160" y="882720"/>
            <a:ext cx="2286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Arial"/>
              </a:rPr>
              <a:t>деду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Arial"/>
              </a:rPr>
              <a:t>па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Arial"/>
              </a:rPr>
              <a:t>сы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Arial"/>
              </a:rPr>
              <a:t>бр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Arial"/>
              </a:rPr>
              <a:t>дяд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Arial"/>
              </a:rPr>
              <a:t>прадеду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Arial"/>
              </a:rPr>
              <a:t>мужч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5"/>
          <p:cNvSpPr/>
          <p:nvPr/>
        </p:nvSpPr>
        <p:spPr>
          <a:xfrm>
            <a:off x="5000760" y="882720"/>
            <a:ext cx="2000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Arial"/>
              </a:rPr>
              <a:t>м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Arial"/>
              </a:rPr>
              <a:t>сес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Arial"/>
              </a:rPr>
              <a:t>бабу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Arial"/>
              </a:rPr>
              <a:t>вну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Arial"/>
              </a:rPr>
              <a:t>тет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Arial"/>
              </a:rPr>
              <a:t>прабабу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Arial"/>
              </a:rPr>
              <a:t>женщ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кругленный прямоугольник 16"/>
          <p:cNvSpPr/>
          <p:nvPr/>
        </p:nvSpPr>
        <p:spPr>
          <a:xfrm>
            <a:off x="357120" y="3643200"/>
            <a:ext cx="8001000" cy="1000080"/>
          </a:xfrm>
          <a:prstGeom prst="roundRect">
            <a:avLst>
              <a:gd name="adj" fmla="val 19972"/>
            </a:avLst>
          </a:prstGeom>
          <a:solidFill>
            <a:srgbClr val="ffe6b3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душевлённые имена существительные бывают мужского и женского р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http://cs317520.userapi.com/v317520447/b84/kOL1escfTKw.jpg"/>
          <p:cNvPicPr/>
          <p:nvPr/>
        </p:nvPicPr>
        <p:blipFill>
          <a:blip r:embed="rId2"/>
          <a:stretch/>
        </p:blipFill>
        <p:spPr>
          <a:xfrm>
            <a:off x="3348000" y="3860640"/>
            <a:ext cx="236052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Группа 4"/>
          <p:cNvGrpSpPr/>
          <p:nvPr/>
        </p:nvGrpSpPr>
        <p:grpSpPr>
          <a:xfrm>
            <a:off x="214200" y="285840"/>
            <a:ext cx="8786880" cy="714240"/>
            <a:chOff x="214200" y="285840"/>
            <a:chExt cx="8786880" cy="714240"/>
          </a:xfrm>
        </p:grpSpPr>
        <p:sp>
          <p:nvSpPr>
            <p:cNvPr id="70" name="Text Box 4"/>
            <p:cNvSpPr/>
            <p:nvPr/>
          </p:nvSpPr>
          <p:spPr>
            <a:xfrm>
              <a:off x="857160" y="428760"/>
              <a:ext cx="8143920" cy="455760"/>
            </a:xfrm>
            <a:prstGeom prst="rect">
              <a:avLst/>
            </a:prstGeom>
            <a:solidFill>
              <a:srgbClr val="ffda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5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Microsoft YaHei"/>
                </a:rPr>
                <a:t>Решаем проблему, открываем новые зна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Рисунок 6" descr="значки - идея.jpg"/>
            <p:cNvPicPr/>
            <p:nvPr/>
          </p:nvPicPr>
          <p:blipFill>
            <a:blip r:embed="rId1"/>
            <a:stretch/>
          </p:blipFill>
          <p:spPr>
            <a:xfrm>
              <a:off x="214200" y="285840"/>
              <a:ext cx="728280" cy="71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" name="TextBox 10"/>
          <p:cNvSpPr/>
          <p:nvPr/>
        </p:nvSpPr>
        <p:spPr>
          <a:xfrm>
            <a:off x="214200" y="1285920"/>
            <a:ext cx="8715600" cy="1769760"/>
          </a:xfrm>
          <a:prstGeom prst="rect">
            <a:avLst/>
          </a:prstGeom>
          <a:solidFill>
            <a:srgbClr val="ded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очитайте слова. Это одушевлённые или неодушевлённые имена существительные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пределите с помощью слов-подсказок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н, она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акие из них мужского рода, а какие женского. Запишите слова в два столби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1"/>
          <p:cNvSpPr/>
          <p:nvPr/>
        </p:nvSpPr>
        <p:spPr>
          <a:xfrm>
            <a:off x="357120" y="3338640"/>
            <a:ext cx="8286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  <a:ea typeface="Arial"/>
              </a:rPr>
              <a:t>Колокольчик, польза, рассвет, окно, алфавит, язык, облако, суббота, поле, коллекция, живопи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57200" y="1600200"/>
          <a:ext cx="8229600" cy="18543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.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6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. 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6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.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6b3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окольч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ь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св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б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к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лфави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лек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вопис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</a:tbl>
          </a:graphicData>
        </a:graphic>
      </p:graphicFrame>
      <p:grpSp>
        <p:nvGrpSpPr>
          <p:cNvPr id="76" name="Группа 4"/>
          <p:cNvGrpSpPr/>
          <p:nvPr/>
        </p:nvGrpSpPr>
        <p:grpSpPr>
          <a:xfrm>
            <a:off x="214200" y="285840"/>
            <a:ext cx="8786880" cy="714240"/>
            <a:chOff x="214200" y="285840"/>
            <a:chExt cx="8786880" cy="714240"/>
          </a:xfrm>
        </p:grpSpPr>
        <p:sp>
          <p:nvSpPr>
            <p:cNvPr id="77" name="Text Box 4"/>
            <p:cNvSpPr/>
            <p:nvPr/>
          </p:nvSpPr>
          <p:spPr>
            <a:xfrm>
              <a:off x="857160" y="428760"/>
              <a:ext cx="8143920" cy="455760"/>
            </a:xfrm>
            <a:prstGeom prst="rect">
              <a:avLst/>
            </a:prstGeom>
            <a:solidFill>
              <a:srgbClr val="ffda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5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Microsoft YaHei"/>
                </a:rPr>
                <a:t>Решаем проблему, открываем новые зна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" name="Рисунок 6" descr="значки - идея.jpg"/>
            <p:cNvPicPr/>
            <p:nvPr/>
          </p:nvPicPr>
          <p:blipFill>
            <a:blip r:embed="rId1"/>
            <a:stretch/>
          </p:blipFill>
          <p:spPr>
            <a:xfrm>
              <a:off x="214200" y="285840"/>
              <a:ext cx="728280" cy="714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7"/>
          <p:cNvSpPr/>
          <p:nvPr/>
        </p:nvSpPr>
        <p:spPr>
          <a:xfrm>
            <a:off x="2673360" y="836640"/>
            <a:ext cx="5113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Женский род запомню 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 скажу: «Она - моя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Я запомню род мужс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 опять скажу: «Он -  мой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редний род – оно, моё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Это правило – твоё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Е. Семён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4" descr="оно мое - 0002.jpg"/>
          <p:cNvPicPr/>
          <p:nvPr/>
        </p:nvPicPr>
        <p:blipFill>
          <a:blip r:embed="rId1"/>
          <a:stretch/>
        </p:blipFill>
        <p:spPr>
          <a:xfrm>
            <a:off x="7407360" y="4438800"/>
            <a:ext cx="1438200" cy="185868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6" descr="он мой.jpg"/>
          <p:cNvPicPr/>
          <p:nvPr/>
        </p:nvPicPr>
        <p:blipFill>
          <a:blip r:embed="rId2"/>
          <a:stretch/>
        </p:blipFill>
        <p:spPr>
          <a:xfrm>
            <a:off x="109440" y="1414440"/>
            <a:ext cx="236556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Скругленный прямоугольник 2"/>
          <p:cNvSpPr/>
          <p:nvPr/>
        </p:nvSpPr>
        <p:spPr>
          <a:xfrm>
            <a:off x="557280" y="2060640"/>
            <a:ext cx="7983360" cy="1268280"/>
          </a:xfrm>
          <a:prstGeom prst="roundRect">
            <a:avLst>
              <a:gd name="adj" fmla="val 16667"/>
            </a:avLst>
          </a:prstGeom>
          <a:solidFill>
            <a:srgbClr val="ffe6b3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928800" y="428760"/>
            <a:ext cx="7786440" cy="455400"/>
          </a:xfrm>
          <a:prstGeom prst="rect">
            <a:avLst/>
          </a:prstGeom>
          <a:solidFill>
            <a:srgbClr val="ffd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Сравниваем свой вывод с авторск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7" descr="значки - сравниваем с автором.jpg"/>
          <p:cNvPicPr/>
          <p:nvPr/>
        </p:nvPicPr>
        <p:blipFill>
          <a:blip r:embed="rId1"/>
          <a:stretch/>
        </p:blipFill>
        <p:spPr>
          <a:xfrm>
            <a:off x="142920" y="214200"/>
            <a:ext cx="811080" cy="766800"/>
          </a:xfrm>
          <a:prstGeom prst="rect">
            <a:avLst/>
          </a:prstGeom>
          <a:ln w="0">
            <a:noFill/>
          </a:ln>
        </p:spPr>
      </p:pic>
      <p:sp>
        <p:nvSpPr>
          <p:cNvPr id="85" name="TextBox 7"/>
          <p:cNvSpPr/>
          <p:nvPr/>
        </p:nvSpPr>
        <p:spPr>
          <a:xfrm>
            <a:off x="606600" y="2284560"/>
            <a:ext cx="7715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Имена существительные бывают или мужского, или женского, или среднего рода.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Управляющая кнопка: домой 1">
            <a:hlinkClick r:id="rId2" action="ppaction://hlinksldjump"/>
          </p:cNvPr>
          <p:cNvSpPr/>
          <p:nvPr/>
        </p:nvSpPr>
        <p:spPr>
          <a:xfrm>
            <a:off x="7596360" y="5300640"/>
            <a:ext cx="725400" cy="720720"/>
          </a:xfrm>
          <a:custGeom>
            <a:avLst/>
            <a:gdLst>
              <a:gd name="textAreaLeft" fmla="*/ 46440 w 725400"/>
              <a:gd name="textAreaRight" fmla="*/ 678960 w 7254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740" h="21600">
                <a:moveTo>
                  <a:pt x="0" y="0"/>
                </a:moveTo>
                <a:lnTo>
                  <a:pt x="21740" y="0"/>
                </a:lnTo>
                <a:lnTo>
                  <a:pt x="21740" y="21600"/>
                </a:lnTo>
                <a:lnTo>
                  <a:pt x="0" y="21600"/>
                </a:lnTo>
                <a:close/>
              </a:path>
              <a:path fill="lightenLess" w="21740" h="21600">
                <a:moveTo>
                  <a:pt x="0" y="0"/>
                </a:moveTo>
                <a:lnTo>
                  <a:pt x="21740" y="0"/>
                </a:lnTo>
                <a:lnTo>
                  <a:pt x="20340" y="1400"/>
                </a:lnTo>
                <a:lnTo>
                  <a:pt x="1400" y="1400"/>
                </a:lnTo>
                <a:close/>
              </a:path>
              <a:path fill="darken" w="21740" h="21600">
                <a:moveTo>
                  <a:pt x="21740" y="0"/>
                </a:moveTo>
                <a:lnTo>
                  <a:pt x="21740" y="21600"/>
                </a:lnTo>
                <a:lnTo>
                  <a:pt x="20340" y="20200"/>
                </a:lnTo>
                <a:lnTo>
                  <a:pt x="20340" y="1400"/>
                </a:lnTo>
                <a:close/>
              </a:path>
              <a:path fill="darkenLess" w="21740" h="21600">
                <a:moveTo>
                  <a:pt x="217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40" y="20200"/>
                </a:lnTo>
                <a:close/>
              </a:path>
              <a:path fill="lighten" w="217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40" h="21600">
                <a:moveTo>
                  <a:pt x="10870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2" y="4707"/>
                </a:lnTo>
                <a:lnTo>
                  <a:pt x="15222" y="8224"/>
                </a:lnTo>
                <a:lnTo>
                  <a:pt x="17833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1" y="17989"/>
                </a:lnTo>
                <a:lnTo>
                  <a:pt x="5561" y="10800"/>
                </a:lnTo>
                <a:lnTo>
                  <a:pt x="3907" y="10800"/>
                </a:lnTo>
                <a:close/>
              </a:path>
              <a:path fill="darkenLess" w="21740" h="21600">
                <a:moveTo>
                  <a:pt x="13446" y="6448"/>
                </a:moveTo>
                <a:lnTo>
                  <a:pt x="13446" y="4707"/>
                </a:lnTo>
                <a:lnTo>
                  <a:pt x="15222" y="4707"/>
                </a:lnTo>
                <a:lnTo>
                  <a:pt x="15222" y="8224"/>
                </a:lnTo>
                <a:close/>
              </a:path>
              <a:path fill="darkenLess" w="21740" h="21600">
                <a:moveTo>
                  <a:pt x="9948" y="14299"/>
                </a:moveTo>
                <a:lnTo>
                  <a:pt x="11793" y="14299"/>
                </a:lnTo>
                <a:lnTo>
                  <a:pt x="11793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1" y="10800"/>
                </a:lnTo>
                <a:lnTo>
                  <a:pt x="5561" y="17989"/>
                </a:lnTo>
                <a:lnTo>
                  <a:pt x="9948" y="17989"/>
                </a:lnTo>
                <a:close/>
              </a:path>
            </a:pathLst>
          </a:custGeom>
          <a:solidFill>
            <a:srgbClr val="ffe6b3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785880" y="428760"/>
            <a:ext cx="8358120" cy="500040"/>
          </a:xfrm>
          <a:prstGeom prst="rect">
            <a:avLst/>
          </a:prstGeom>
          <a:solidFill>
            <a:srgbClr val="ffd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Применяем новые знания. Развиваем ум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6" descr="значки.jpg"/>
          <p:cNvPicPr/>
          <p:nvPr/>
        </p:nvPicPr>
        <p:blipFill>
          <a:blip r:embed="rId1"/>
          <a:stretch/>
        </p:blipFill>
        <p:spPr>
          <a:xfrm>
            <a:off x="82440" y="285840"/>
            <a:ext cx="725760" cy="785880"/>
          </a:xfrm>
          <a:prstGeom prst="rect">
            <a:avLst/>
          </a:prstGeom>
          <a:ln w="0">
            <a:noFill/>
          </a:ln>
        </p:spPr>
      </p:pic>
      <p:sp>
        <p:nvSpPr>
          <p:cNvPr id="89" name="TextBox 11"/>
          <p:cNvSpPr/>
          <p:nvPr/>
        </p:nvSpPr>
        <p:spPr>
          <a:xfrm>
            <a:off x="285840" y="1357200"/>
            <a:ext cx="39290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Посмотрите на картинку и запишите по два  имени существительны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мужского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женского 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среднего род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Какие из них одушевлённые, а какие – неодушевлённые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http://cs304405.userapi.com/u406112/-14/x_43f625f1.jpg"/>
          <p:cNvPicPr/>
          <p:nvPr/>
        </p:nvPicPr>
        <p:blipFill>
          <a:blip r:embed="rId2"/>
          <a:stretch/>
        </p:blipFill>
        <p:spPr>
          <a:xfrm>
            <a:off x="6338880" y="1071720"/>
            <a:ext cx="2590920" cy="230796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pic>
        <p:nvPicPr>
          <p:cNvPr id="91" name="Picture 2" descr="http://i013.radikal.ru/1109/fd/4e96c18fed68.png"/>
          <p:cNvPicPr/>
          <p:nvPr/>
        </p:nvPicPr>
        <p:blipFill>
          <a:blip r:embed="rId3"/>
          <a:stretch/>
        </p:blipFill>
        <p:spPr>
          <a:xfrm>
            <a:off x="4143240" y="3000240"/>
            <a:ext cx="3938760" cy="3622680"/>
          </a:xfrm>
          <a:prstGeom prst="rect">
            <a:avLst/>
          </a:prstGeom>
          <a:ln w="0">
            <a:noFill/>
          </a:ln>
        </p:spPr>
      </p:pic>
      <p:sp>
        <p:nvSpPr>
          <p:cNvPr id="92" name="Управляющая кнопка: домой 6">
            <a:hlinkClick r:id="rId4" action="ppaction://hlinksldjump"/>
          </p:cNvPr>
          <p:cNvSpPr/>
          <p:nvPr/>
        </p:nvSpPr>
        <p:spPr>
          <a:xfrm>
            <a:off x="8248680" y="5805360"/>
            <a:ext cx="725400" cy="719280"/>
          </a:xfrm>
          <a:custGeom>
            <a:avLst/>
            <a:gdLst>
              <a:gd name="textAreaLeft" fmla="*/ 46440 w 725400"/>
              <a:gd name="textAreaRight" fmla="*/ 678960 w 7254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784" h="21600">
                <a:moveTo>
                  <a:pt x="0" y="0"/>
                </a:moveTo>
                <a:lnTo>
                  <a:pt x="21784" y="0"/>
                </a:lnTo>
                <a:lnTo>
                  <a:pt x="21784" y="21600"/>
                </a:lnTo>
                <a:lnTo>
                  <a:pt x="0" y="21600"/>
                </a:lnTo>
                <a:close/>
              </a:path>
              <a:path fill="lightenLess" w="21784" h="21600">
                <a:moveTo>
                  <a:pt x="0" y="0"/>
                </a:moveTo>
                <a:lnTo>
                  <a:pt x="21784" y="0"/>
                </a:lnTo>
                <a:lnTo>
                  <a:pt x="20384" y="1400"/>
                </a:lnTo>
                <a:lnTo>
                  <a:pt x="1400" y="1400"/>
                </a:lnTo>
                <a:close/>
              </a:path>
              <a:path fill="darken" w="21784" h="21600">
                <a:moveTo>
                  <a:pt x="21784" y="0"/>
                </a:moveTo>
                <a:lnTo>
                  <a:pt x="21784" y="21600"/>
                </a:lnTo>
                <a:lnTo>
                  <a:pt x="20384" y="20200"/>
                </a:lnTo>
                <a:lnTo>
                  <a:pt x="20384" y="1400"/>
                </a:lnTo>
                <a:close/>
              </a:path>
              <a:path fill="darkenLess" w="21784" h="21600">
                <a:moveTo>
                  <a:pt x="21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84" y="20200"/>
                </a:lnTo>
                <a:close/>
              </a:path>
              <a:path fill="lighten" w="21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84" h="21600">
                <a:moveTo>
                  <a:pt x="10892" y="3837"/>
                </a:moveTo>
                <a:lnTo>
                  <a:pt x="13468" y="6448"/>
                </a:lnTo>
                <a:lnTo>
                  <a:pt x="13468" y="4707"/>
                </a:lnTo>
                <a:lnTo>
                  <a:pt x="15244" y="4707"/>
                </a:lnTo>
                <a:lnTo>
                  <a:pt x="15244" y="8224"/>
                </a:lnTo>
                <a:lnTo>
                  <a:pt x="17855" y="10800"/>
                </a:lnTo>
                <a:lnTo>
                  <a:pt x="16201" y="10800"/>
                </a:lnTo>
                <a:lnTo>
                  <a:pt x="16201" y="17989"/>
                </a:lnTo>
                <a:lnTo>
                  <a:pt x="5583" y="17989"/>
                </a:lnTo>
                <a:lnTo>
                  <a:pt x="5583" y="10800"/>
                </a:lnTo>
                <a:lnTo>
                  <a:pt x="3929" y="10800"/>
                </a:lnTo>
                <a:close/>
              </a:path>
              <a:path fill="darkenLess" w="21784" h="21600">
                <a:moveTo>
                  <a:pt x="13468" y="6448"/>
                </a:moveTo>
                <a:lnTo>
                  <a:pt x="13468" y="4707"/>
                </a:lnTo>
                <a:lnTo>
                  <a:pt x="15244" y="4707"/>
                </a:lnTo>
                <a:lnTo>
                  <a:pt x="15244" y="8224"/>
                </a:lnTo>
                <a:close/>
              </a:path>
              <a:path fill="darkenLess" w="21784" h="21600">
                <a:moveTo>
                  <a:pt x="9969" y="14299"/>
                </a:moveTo>
                <a:lnTo>
                  <a:pt x="11814" y="14299"/>
                </a:lnTo>
                <a:lnTo>
                  <a:pt x="11814" y="17989"/>
                </a:lnTo>
                <a:lnTo>
                  <a:pt x="16201" y="17989"/>
                </a:lnTo>
                <a:lnTo>
                  <a:pt x="16201" y="10800"/>
                </a:lnTo>
                <a:lnTo>
                  <a:pt x="5583" y="10800"/>
                </a:lnTo>
                <a:lnTo>
                  <a:pt x="5583" y="17989"/>
                </a:lnTo>
                <a:lnTo>
                  <a:pt x="9969" y="17989"/>
                </a:lnTo>
                <a:close/>
              </a:path>
            </a:pathLst>
          </a:custGeom>
          <a:solidFill>
            <a:srgbClr val="ffe6b3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2T17:12:39Z</dcterms:created>
  <dc:creator>Admin</dc:creator>
  <dc:description/>
  <dc:language>en-US</dc:language>
  <cp:lastModifiedBy>User</cp:lastModifiedBy>
  <dcterms:modified xsi:type="dcterms:W3CDTF">2014-05-25T17:51:29Z</dcterms:modified>
  <cp:revision>325</cp:revision>
  <dc:subject/>
  <dc:title>Слайд 1</dc:title>
</cp:coreProperties>
</file>